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684-7A16-4915-8B29-11F38C0D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833-1A1E-4FAB-84EC-09BBEA6B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1D9-93BF-473F-BFAA-57F48574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392-C49E-4F37-907A-2E135F3B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64E-794F-43A2-B415-CB1B77AD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036-B517-4A3B-9BBA-F9203761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F77-870B-4933-A1BE-28A9BD32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99C-3AA8-4E80-8C55-E5B4C63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3EC-5132-4266-A550-DDF3C3BD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D5A-E949-4189-B19C-2121D5A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9BF-2B10-44B7-8E93-DDF9C2C6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905-DB25-414D-8A8B-89BE8E23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B975-9F49-4838-B8B1-845E334A7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e-B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é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12 Bye-Bye.m4a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09480" y="3808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tement, plutôt vaillant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833400" y="55627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ag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09480" y="3808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tement, plutôt vaillant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i tu dois, pour toi, pour moi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833400" y="55627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ag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685800" y="4572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85800" y="4572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62120" y="4874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62120" y="48744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762120" y="48744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sitôt vailla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762120" y="48744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sitôt vaill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762120" y="48744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sitôt vaill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09480" y="457200"/>
            <a:ext cx="98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85800" y="4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609480" y="457200"/>
            <a:ext cx="98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609480" y="457200"/>
            <a:ext cx="982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609480" y="457200"/>
            <a:ext cx="982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609480" y="457200"/>
            <a:ext cx="982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609480" y="457200"/>
            <a:ext cx="9829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609480" y="457200"/>
            <a:ext cx="9829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i tu dois, pour toi, pour moi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762120" y="42876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donc sur le cham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846000" y="5938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th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762120" y="42876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donc sur le cham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 tel est ton voeu (G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846000" y="5938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th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85800" y="5335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ns jargon ni gant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43120" y="594360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685800" y="5335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ns jargon ni gant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s'il se peut (G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3120" y="594360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85800" y="4572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685800" y="4572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souci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à six sou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851400" y="563868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wo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equivalent of pen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85800" y="4572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souci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à six sou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deux mots c'est si s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851400" y="563868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wo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equivalent of pen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60948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609480" y="4572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09480" y="4572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09480" y="4572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09480" y="4572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609480" y="45720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609480" y="4572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09480" y="4572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609480" y="4572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457200"/>
            <a:ext cx="8001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85800" y="4572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85800" y="4572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tes dou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849600" y="60199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nner la voix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85800" y="457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tes dou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is s'il te coû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49600" y="60199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nner la voix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6094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09480" y="380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609480" y="380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tement, plutôt vaillant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833400" y="556272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ag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1:37:43Z</dcterms:created>
  <dc:creator>Angie</dc:creator>
  <dc:description/>
  <dc:language>en-US</dc:language>
  <cp:lastModifiedBy>Angie</cp:lastModifiedBy>
  <dcterms:modified xsi:type="dcterms:W3CDTF">2011-11-17T13:57:30Z</dcterms:modified>
  <cp:revision>8</cp:revision>
  <dc:subject/>
  <dc:title>Bye-Bye</dc:title>
</cp:coreProperties>
</file>